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9AE3-5682-4D95-BF91-E3D7C460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715-E9DF-4DE7-8F04-4D5DDEB3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125-104B-4A00-AD46-0AB47AC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DE3-8A20-4EA8-9EAF-0B1C9B8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824-F8A8-431D-AC86-21694B2D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7BA-C557-4C65-AE88-DA7A9CCE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246-7982-4EFA-8B2A-301A0355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624-C2CF-41EB-9A0D-E536640E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14A-4F0C-42CF-90D3-020B7FB9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A1E-42EA-4CA0-9BBA-DFC0C71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B60-95BA-4DFA-836B-C813198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126-EEC6-4BE4-98D8-A8347E6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840-2D3B-4006-9136-B52B51F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786-008D-4A20-899B-0BA2458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0A7-F0AD-4158-969E-2B7C807E0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isbah A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(25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(25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as tardes! I am going to a party (to be translated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05Z</dcterms:modified>
  <cp:revision>106</cp:revision>
  <dc:subject/>
  <dc:title>Profile</dc:title>
</cp:coreProperties>
</file>